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0.jpeg" ContentType="image/jpeg"/>
  <Override PartName="/ppt/media/image38.jpeg" ContentType="image/jpeg"/>
  <Override PartName="/ppt/media/image7.jpeg" ContentType="image/jpeg"/>
  <Override PartName="/ppt/media/image41.jpeg" ContentType="image/jpeg"/>
  <Override PartName="/ppt/media/image14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5.gif" ContentType="image/gif"/>
  <Override PartName="/ppt/media/image23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6.jpeg" ContentType="image/jpeg"/>
  <Override PartName="/ppt/media/image35.jpeg" ContentType="image/jpeg"/>
  <Override PartName="/ppt/media/image1.jpeg" ContentType="image/jpeg"/>
  <Override PartName="/ppt/media/image45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62.gif" ContentType="image/gif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2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img.blog.163.com/photo/kvxVlPxOr0qlF9ooeGrRFA==/286260051315187309.jpg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7280" y="3499560"/>
            <a:ext cx="68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黑体"/>
              </a:rPr>
              <a:t>-----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黑体"/>
              </a:rPr>
              <a:t>深圳市龙华中英文实验学校九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黑体"/>
              </a:rPr>
              <a:t>[1]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黑体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2133720"/>
            <a:ext cx="77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5.12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汶川大地震  爱心捐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38036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4508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课件制作人</a:t>
            </a: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--</a:t>
            </a: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孙家祥    为汶川大地震中遇难的同胞默哀；为地震中尚未脱困的同胞祈祷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38560" y="2606760"/>
            <a:ext cx="5905440" cy="4251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看完路透社发的地震图片，心在流血！[图]"/>
          <p:cNvPicPr/>
          <p:nvPr/>
        </p:nvPicPr>
        <p:blipFill>
          <a:blip r:embed="rId2"/>
          <a:stretch/>
        </p:blipFill>
        <p:spPr>
          <a:xfrm>
            <a:off x="0" y="0"/>
            <a:ext cx="6227640" cy="4206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50920" y="4508640"/>
            <a:ext cx="2808360" cy="2111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443640" y="76500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在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48000" y="95400"/>
            <a:ext cx="5796000" cy="6667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9640" y="2021760"/>
            <a:ext cx="252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都江堰聚源中学垮塌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个班的学生被埋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希望他们平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点击查看下一张"/>
          <p:cNvPicPr/>
          <p:nvPr/>
        </p:nvPicPr>
        <p:blipFill>
          <a:blip r:embed="rId1"/>
          <a:stretch/>
        </p:blipFill>
        <p:spPr>
          <a:xfrm>
            <a:off x="2771640" y="2260440"/>
            <a:ext cx="6372360" cy="459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4060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435640" y="836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世上最无助的手</a:t>
            </a: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4000" y="4869000"/>
            <a:ext cx="21603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地震现场图片，眼泪控制不住啊[组图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35640" y="1268280"/>
            <a:ext cx="3311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里面可有人活着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看完路透社发的地震图片，心在流血！[图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24720" cy="5016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558972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怎一个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黑体"/>
              </a:rPr>
              <a:t>惨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字了得－－－－－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地震现场图片，眼泪控制不住啊[组图]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1280" y="587700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怎一个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黑体"/>
              </a:rPr>
              <a:t>惨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字了得－－－－－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地震现场图片，眼泪控制不住啊[组图]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587700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怎一个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黑体"/>
              </a:rPr>
              <a:t>惨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字了得－－－－－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932520"/>
            <a:chOff x="0" y="0"/>
            <a:chExt cx="9144000" cy="6932520"/>
          </a:xfrm>
        </p:grpSpPr>
        <p:grpSp>
          <p:nvGrpSpPr>
            <p:cNvPr id="81" name=""/>
            <p:cNvGrpSpPr/>
            <p:nvPr/>
          </p:nvGrpSpPr>
          <p:grpSpPr>
            <a:xfrm>
              <a:off x="0" y="0"/>
              <a:ext cx="9144000" cy="6932520"/>
              <a:chOff x="0" y="0"/>
              <a:chExt cx="9144000" cy="6932520"/>
            </a:xfrm>
          </p:grpSpPr>
          <p:pic>
            <p:nvPicPr>
              <p:cNvPr id="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93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13360"/>
                <a:ext cx="2454120" cy="184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" name=""/>
            <p:cNvSpPr/>
            <p:nvPr/>
          </p:nvSpPr>
          <p:spPr>
            <a:xfrm>
              <a:off x="2843280" y="6093000"/>
              <a:ext cx="59054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同学们：让我们为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.12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地震死难的同胞默哀三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6920" y="3141720"/>
            <a:ext cx="749016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  <a:ea typeface="黑体"/>
              </a:rPr>
              <a:t>心中的痛，没有语言能表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280" y="260280"/>
            <a:ext cx="4572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宝贝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~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走好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~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天堂里没有地震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（有感于一张照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本来你该是最幸福快乐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爸爸妈妈爱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爷爷奶奶宠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叔叔阿姨疼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你就像春天里的花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等待夏天绽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可是，因为一场地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你长眠于地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宝贝，我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当时你一定非常无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宝贝，我不能想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当时你的惊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如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当我看到你的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当我想起你的稚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宝贝，我流泪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我只希望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宝贝，你一路走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但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那天堂再也没有地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981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第二章：救难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3068640"/>
            <a:ext cx="750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温爷爷说：“孩子们一定要挺住，一定会得救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32720" cy="5683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76920" y="6096960"/>
            <a:ext cx="91368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我们就尽百倍努力，绝不会放松。废墟下哪怕还有一个人，我们都要抢救到底。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4067280" cy="3052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3838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42920" y="537372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黑体"/>
                <a:ea typeface="黑体"/>
              </a:rPr>
              <a:t>谁是最可爱的人</a:t>
            </a:r>
            <a:r>
              <a:rPr b="1" lang="zh-CN" sz="4800" spc="-1" strike="noStrike">
                <a:solidFill>
                  <a:srgbClr val="660033"/>
                </a:solidFill>
                <a:latin typeface="黑体"/>
                <a:ea typeface="黑体"/>
              </a:rPr>
              <a:t>--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地震现场图片，眼泪控制不住啊[组图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358520" y="6240960"/>
            <a:ext cx="74916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第一还是救人，救人的重点是重灾区，地震中心区，联系不到的地区。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8360" y="5661000"/>
            <a:ext cx="640872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黑体"/>
                <a:ea typeface="黑体"/>
              </a:rPr>
              <a:t>谁是最可爱的人</a:t>
            </a:r>
            <a:r>
              <a:rPr b="1" lang="zh-CN" sz="4800" spc="-1" strike="noStrike">
                <a:solidFill>
                  <a:srgbClr val="660033"/>
                </a:solidFill>
                <a:latin typeface="黑体"/>
                <a:ea typeface="黑体"/>
              </a:rPr>
              <a:t>--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354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448160" y="0"/>
            <a:ext cx="4695840" cy="3505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24360" y="4861080"/>
            <a:ext cx="2880000" cy="5205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现在第一位的工作是抓紧时间救人，多争取一分一秒的时间就可能多抢救出一个被困者。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64360" cy="343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3924360" cy="3429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211640" y="3381480"/>
            <a:ext cx="4932360" cy="3476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401240" y="549360"/>
            <a:ext cx="11552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最可爱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4000" y="5516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总理蹲坐在废墟上对着孩子说，我是温爷爷，孩子们一定要挺住，一定会得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98100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第一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85264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突来的灾祸：心在滴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-</a:t>
            </a: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黑体"/>
              </a:rPr>
              <a:t>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4360" y="4149720"/>
            <a:ext cx="432000" cy="647640"/>
          </a:xfrm>
          <a:custGeom>
            <a:avLst/>
            <a:gdLst>
              <a:gd name="textAreaLeft" fmla="*/ 101520 w 432000"/>
              <a:gd name="textAreaRight" fmla="*/ 330120 w 432000"/>
              <a:gd name="textAreaTop" fmla="*/ 75960 h 647640"/>
              <a:gd name="textAreaBottom" fmla="*/ 406440 h 647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4941720"/>
            <a:ext cx="360360" cy="648000"/>
          </a:xfrm>
          <a:custGeom>
            <a:avLst/>
            <a:gdLst>
              <a:gd name="textAreaLeft" fmla="*/ 84600 w 360360"/>
              <a:gd name="textAreaRight" fmla="*/ 275400 w 360360"/>
              <a:gd name="textAreaTop" fmla="*/ 75960 h 648000"/>
              <a:gd name="textAreaBottom" fmla="*/ 406440 h 648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661000"/>
            <a:ext cx="289080" cy="720720"/>
          </a:xfrm>
          <a:custGeom>
            <a:avLst/>
            <a:gdLst>
              <a:gd name="textAreaLeft" fmla="*/ 67680 w 289080"/>
              <a:gd name="textAreaRight" fmla="*/ 221040 w 289080"/>
              <a:gd name="textAreaTop" fmla="*/ 84600 h 720720"/>
              <a:gd name="textAreaBottom" fmla="*/ 452160 h 72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8820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看完路透社发的地震图片，心在流血！[图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地震现场图片，眼泪控制不住啊[组图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56000" y="5734080"/>
            <a:ext cx="640872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黑体"/>
                <a:ea typeface="黑体"/>
              </a:rPr>
              <a:t>谁是最可爱的人</a:t>
            </a:r>
            <a:r>
              <a:rPr b="1" lang="zh-CN" sz="4800" spc="-1" strike="noStrike">
                <a:solidFill>
                  <a:srgbClr val="660033"/>
                </a:solidFill>
                <a:latin typeface="黑体"/>
                <a:ea typeface="黑体"/>
              </a:rPr>
              <a:t>--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118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038560" y="0"/>
            <a:ext cx="4105440" cy="5619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311880" y="5877000"/>
            <a:ext cx="28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最可爱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4435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381560" y="2781360"/>
            <a:ext cx="4762440" cy="4076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84360" y="4587840"/>
            <a:ext cx="30258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27040" y="406440"/>
            <a:ext cx="27684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当风雪阻断归路， 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们彼此照顾！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当主权面对挑战，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们坚决反对藏独！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当圣火遭遇屈辱，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们义无反顾！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当病毒吞噬生命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， </a:t>
            </a:r>
            <a:br>
              <a:rPr sz="40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们用爱弥补！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840" y="2060640"/>
            <a:ext cx="3377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当列车冲出轨道， 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我们竭诚互助！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当地震撕裂大地， 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我们开山辟路！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勇敢面对磨难，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神龙自有天护，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2008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我们绝不服输！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中国人永不服输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981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第三章：希望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3573360"/>
            <a:ext cx="750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希望在哪里？在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--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看完路透社发的地震图片，心在流血！[图]"/>
          <p:cNvPicPr/>
          <p:nvPr/>
        </p:nvPicPr>
        <p:blipFill>
          <a:blip r:embed="rId1"/>
          <a:stretch/>
        </p:blipFill>
        <p:spPr>
          <a:xfrm>
            <a:off x="0" y="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6021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希望在伤痕累累还挑灯夜读的小女孩身上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看完路透社发的地震图片，心在流血！[图]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1445400"/>
            <a:ext cx="230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希望在深埋废墟等待救援信念不灭的大男孩身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------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96360" cy="5365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0920" y="57340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希望在重见光明而不哭泣的小朋友身上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00720" cy="4719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50920" y="57340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希望在倾其所有，写满痛心的老奶奶身上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92720" y="2581200"/>
            <a:ext cx="385128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12000" cy="5506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72800" y="5690520"/>
            <a:ext cx="52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希望在</a:t>
            </a:r>
            <a:r>
              <a:rPr b="1" lang="zh-CN" sz="3600" spc="-1" strike="noStrike">
                <a:solidFill>
                  <a:srgbClr val="660033"/>
                </a:solidFill>
                <a:latin typeface="Tahoma"/>
                <a:ea typeface="黑体"/>
              </a:rPr>
              <a:t>含泪播报新闻的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主持人身上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3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4000" y="59112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希望在他们身上：</a:t>
            </a:r>
            <a:r>
              <a:rPr b="1" lang="zh-CN" sz="2800" spc="-1" strike="noStrike">
                <a:solidFill>
                  <a:srgbClr val="660033"/>
                </a:solidFill>
                <a:latin typeface="Tahoma"/>
                <a:ea typeface="黑体"/>
              </a:rPr>
              <a:t>穿着结婚礼服献血的一对新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135440" y="549360"/>
            <a:ext cx="11552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ahoma"/>
                <a:ea typeface="黑体"/>
              </a:rPr>
              <a:t>如此的坚强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希望在他们身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69228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第四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227664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我们众志成城　　愿天佑中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357336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我们多灾多难的祖国母亲－－明天会更好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8920" y="836280"/>
            <a:ext cx="8605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I'm chinaese!  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是中国人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!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I love my motherland! 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深爱我的祖国！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We will make seismic victory!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们一定会取得抗震救灾胜利的！    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724360" y="404640"/>
            <a:ext cx="308952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9280" y="1405080"/>
            <a:ext cx="518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爸爸妈妈 别为我们难过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献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5.1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离去的小天使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爸爸妈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那是你们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听到了你们的呼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从出生时开始就听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从小宝宝一直听到我上小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33336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请读：为死难的同胞祈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003640" y="0"/>
            <a:ext cx="4140360" cy="6858000"/>
            <a:chOff x="5003640" y="0"/>
            <a:chExt cx="4140360" cy="6858000"/>
          </a:xfrm>
        </p:grpSpPr>
        <p:pic>
          <p:nvPicPr>
            <p:cNvPr id="188" name="" descr="点击查看下一张"/>
            <p:cNvPicPr/>
            <p:nvPr/>
          </p:nvPicPr>
          <p:blipFill>
            <a:blip r:embed="rId1"/>
            <a:stretch/>
          </p:blipFill>
          <p:spPr>
            <a:xfrm>
              <a:off x="6732720" y="0"/>
              <a:ext cx="2411280" cy="20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5003640" y="1268280"/>
              <a:ext cx="4140360" cy="5589720"/>
              <a:chOff x="5003640" y="1268280"/>
              <a:chExt cx="4140360" cy="5589720"/>
            </a:xfrm>
          </p:grpSpPr>
          <p:pic>
            <p:nvPicPr>
              <p:cNvPr id="190" name="" descr="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5003640" y="1268280"/>
                <a:ext cx="2648160" cy="28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67280" y="3933720"/>
                <a:ext cx="3276720" cy="292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00000" y="404640"/>
            <a:ext cx="7056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当我现在睡着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好想让你们来到我的跟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给我盖上裸露的手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帮我找回我跑丢的小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爸爸妈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好想你们能亲手为我合上双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让爸爸再亲亲我的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让妈妈再摸我的脸颊一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爸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身边还有好多的弟弟妹妹哥哥姐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一定要找到他们亲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71640" y="620640"/>
            <a:ext cx="680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带上漂亮的衣服还有漂亮的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妈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我们都是好孩子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正在好好的学习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努力不给你们丢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可是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爸爸妈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我和我的同学还有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静静地躺在学校昔日的操场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往日的情景又在出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00000" y="765000"/>
            <a:ext cx="72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们在这里跳绳在这里踢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我们在这里戴上红领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在这里向祖国宣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好好学习 天天向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好多好多的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好多好多的嫩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可是现在我好冷好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爸爸妈妈抱抱我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定要再亲亲我的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16000" y="404640"/>
            <a:ext cx="7416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爸爸妈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们在外打工好远好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知道你们好难好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没有怪你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把我托付给叔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没有怪你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不在我的跟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因为还有爷爷奶奶要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们还要出去挣钱挣好多钱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68360" y="260280"/>
            <a:ext cx="7775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爸爸妈妈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为我们难过 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们跟老师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爸爸妈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为我们难过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后一定要记得建好我们的家园 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们只求爸爸妈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有千千万万个爸爸妈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在下一个今天 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下一个的今天 为我们把气球放飞一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上面写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们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们来过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们是天使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11280" y="362808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同学们：我们的同胞正在受难！伸出你的手，伸出我的手，伸出大家的手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------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让爱心帮助灾区同胞度过难关，让爱心减轻祖国母亲的伤痛，让爱心铸就中华民族坚强的中国魂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1916280"/>
            <a:ext cx="77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5.12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汶川大地震  爱心捐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180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地震现场图片，眼泪控制不住啊[组图]"/>
          <p:cNvPicPr/>
          <p:nvPr/>
        </p:nvPicPr>
        <p:blipFill>
          <a:blip r:embed="rId1"/>
          <a:stretch/>
        </p:blipFill>
        <p:spPr>
          <a:xfrm>
            <a:off x="0" y="0"/>
            <a:ext cx="8459640" cy="5634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8360" y="580536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孩子，你在哪里呀，你在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9:13:1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31:25Z</dcterms:modified>
  <cp:revision>154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